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31C3-1D69-41D1-97C3-A6E07571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F3CE-8060-45CB-878A-5B93C474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6A559-05D0-441D-AC64-A4555844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38BDE-C336-4482-81BC-0C3AE8EA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4BF1F-A432-4604-B3E8-18ECDFD0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E33F8-DD78-43E9-97CF-3139EABF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0D04C-F5A4-4202-9BD0-CA279B8A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5EDA7-3B5F-4594-B3AE-F560E290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CA07A-5377-497B-ABD3-1C3AF063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1AD0A-5C97-4A65-A040-F222D127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48AB3-81B9-41DA-A0BE-A0D4A74D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1E9A2-D7B2-43C7-98EB-7A105E44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2E80-F446-459D-AE92-C5EE86F1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FE166-BFA4-45D7-B5D4-7A433792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C740B-6B0B-487B-B3D3-0DD7E24E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DB291-5FFF-4291-8F04-D79FF0CE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484C4-5D64-41C4-81AD-733DF705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15734-CA8B-4C22-94CE-08D625B2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C2F93-95E0-40C3-B2A5-83D6DE7C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9E62E-6948-4682-BE9B-7AC4FFC0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CB62B-E069-4A3F-BC31-A59AB300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2CF1E-C10E-41F9-80C7-24AB29EA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BD947-7D14-438F-9F0D-23E5ED1A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1C84-6A65-4F2A-8BC3-8336D41E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38F3A-AD2B-40F4-AB5C-9EFE7853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42E1D-4943-46F7-BD4A-867056C3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7F6A2-97FF-49ED-991A-5EE9234E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229F9-F391-4DCA-9452-052EE08C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83BC2-626F-4EAB-94D8-1F101574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5EEB5-114B-4222-ADBF-4E8EF777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EE65F-3254-48A1-83C4-9E52579D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D6C68-AAAE-4DE4-9697-B4EC3DE8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020BE-89B7-45F9-B38D-469E71F2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77C93-7461-43E6-ADEC-74F99D9C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D5F2-60DF-430B-B84B-6A661AAE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1BD79-930A-4F70-A48B-127EEA3B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BB6D0-8A58-425B-A1EC-24FFD423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082CD-FC3C-4B95-BD51-8D536129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938F5-1DBF-4F9C-BEA7-3EB56FCD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19523-B256-43F8-8C34-810030A8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D74BB-A123-4A6F-86F9-8A41BE0C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0492D-60ED-4FAE-BB8B-E65553EA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A9C71-B845-41D1-B15D-EA51024B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E617E-CFC8-4866-BF5C-126A55F0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99570-CBD3-448C-BFC2-1FA4E5E7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1A4C-9D2F-4640-B4D0-C88AE621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6A47F-3A76-4E3E-BEB9-67E4F305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7E0CA-0DBA-4F17-A127-26CB14A0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7E4D6-F22D-45CB-8C4D-53E9AE30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52997-EB47-4445-A142-06049169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AB8D1-9BAB-4BE6-A4FA-1E6CDDFE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E6AAB1-D871-4CBE-B185-E1753B41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C39BA-498D-41BD-B022-285748EF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61F08-7F9A-4F28-9909-C460DA13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8FD6F-CB68-4E2B-AEA5-D41EB67E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361A8A-10EE-4249-B71C-7D4ACD4D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BB74-E8C5-48A0-84D9-C351CA5B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94021-73C5-4BC6-B21E-D6B6C72E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B7A4CC-2D81-4EB3-B509-EEB37C9E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0247E-24A4-4BCE-9745-1278217E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58630-43F7-4141-AE1F-2C582781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EE24C-91A8-4A52-B8D8-72BC9F22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CB015-22DD-4340-ACC7-0A0B1E45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D7B36B-6DAB-46BE-B667-89B9D70B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C94151-02C2-4DAB-BD0C-FDE88D80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7C314-892B-4465-9BD4-B0410F93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1469F9-8B8F-41E4-9276-1BF4E623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CF3E-95D9-4324-BF83-C578D7DB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E08AEC-BE09-45B3-90E6-BE64DB52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208FB-CAE7-43EE-B901-8B1FBC22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50D927-C9CC-4005-BB0E-CF8F0C22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2ADFCA-85A3-49F5-9F7C-9AB7029A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9EBDED-0C36-4A58-B53E-E4BE5954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BF6E2F-F312-42E1-891B-747678E6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5BFE38-480D-4950-A16D-9E1A5AEC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13A2D1-91EF-4B65-AD00-5499755A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A7BD69-ED19-49AE-AA6C-B8693FA5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D59D9C-BAB7-4E6B-A29F-3A34607D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52FD-3362-4F6E-BB9D-75DEDE0C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7F4B3D-0F5E-4F4E-9C01-DD210BF6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2D0F52-A1C7-474D-8602-5D020EE8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84283E-E02C-4BFA-A927-46EE0CBB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F528A2-4620-4F8D-877B-FE8F92DA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13D0D-5DED-4B44-A591-C223C60B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2B5C25-7FBD-45C7-9307-4ADEFB81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4B4058-737D-4227-8087-757110EC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5DFBB4-C9F4-4565-BB33-47B90573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EF4DD6-4AF4-43EE-9BF4-6CBF6D29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C62D14-04F3-4994-BF02-A8EC30B9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654C-259D-4821-BA40-59479EA8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5547BF-A285-49DE-924B-883E5F27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82B20D-6603-4206-A83A-86BECF67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E9EAB4-12EA-477F-B3BE-31AFD359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7DD270-4BAE-4D46-ACFD-63949077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66C664-62B8-4459-8D91-13430032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B679B7-10A6-40EC-B468-1FF052B3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A3EF2C-A262-49B1-AFE4-1A7548C0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E950D5-1BB4-404A-8F28-4F05AB42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F2A238-AB7E-4C54-B4D7-B83C0C89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936FB4-FCC7-46C3-9A2D-D4886FDD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23D5-72C4-4358-98F6-E3D071B5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25FD41-CE25-47D5-AD63-D985C6F2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4B71BE-4423-403C-A542-8CA4ABF7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88593B-6901-4613-B355-26F32F3E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9657C1-06BD-4F18-A0B0-084AD55F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8EB075-9852-4005-A539-A633AEA7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4CF1B5-8129-48AE-8BFD-BEEBBCF5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47532F-2DB1-4B90-A60D-F38E0451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EA7620-4CD6-400E-9843-CBAABFA6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F3BD1B-ED12-411D-8FD0-AFDF8672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0DBF64-FA43-454A-9F3D-2308035A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F6CF-DF38-43CD-A166-B2156BCB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276A-7243-40AA-8EF6-860552E8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25A395-FB01-490C-AA7E-C8A0FFA8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AD3DF8-B761-467F-8BDD-817126D3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684BDF-F24B-4FF0-8D8D-19ED26DF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8749F4-B125-487B-912A-7CF65E50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5F8E47-3BDA-4681-A1D0-407F23F1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05DABF-70C3-48EF-8318-8990E515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85606E-31BE-4E2C-BAAF-7A0FA3AE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67F44F-2C26-4C85-886C-4CBEE7AA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EA92C3-5495-4D7E-B0F2-D3328113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57A7D5-D590-4737-84B3-20E7BFDC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ECEF-8240-4392-B2D8-AF614BD4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18555C-C9BB-46D4-B5A1-BFEC253C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49D565-DC61-42C4-B6E9-D2912EB7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A264D0-8DE3-4144-B444-F9595CA0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44BD83-BBDC-4FFD-AA24-0273F2AC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1A6916-EB7A-4C68-A1A5-8CDC3110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1FC552-10A2-4EA3-943B-3B0ECCBC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E0CA6A-833C-4788-83F7-F4220A42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18C655-1A13-4D0C-B1DE-AB551BB9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5A7307-3E86-4B24-9187-8056552F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CE4FA8-993E-4F57-AAB4-2C575CB5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A73D-C5E4-4CAC-9AA8-3D9B21E2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0E7825-BCFF-4FAC-AF92-141FEA0F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A79CBB-4533-48AD-B6A1-E27BF398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7A3DBB-3482-4C85-B21C-9EF37F65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07946A-F2E5-40FA-BF99-19B0398A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FFF068-7E1D-41C3-99C9-6C4A4EBC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7D329B-811E-4D6A-BF1B-BB314443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A70149-0B76-4D57-915F-6E6ABFA0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481C98-ED1F-4DAE-A5AF-539A83BE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0E5F0F-DBA6-4D53-8086-FCA7F1B9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65E6DD-5280-4F7E-9818-140D1EBA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6304-FA09-4DCB-929D-F2C93848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1BF1B5-842A-4E66-9FB4-1F16C315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AD0B1B-A60E-4973-BBED-4A3084B4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621436-B036-4671-B30D-E7AB41AD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A507E6-E115-4EF6-BB6D-1B934866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E20178-C737-44CB-9C47-B12C3243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B18639-6F04-44F0-819D-F935094D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8E448B-F3D1-48EB-93DD-ADA8FC0B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E1FFCE-DE84-4360-A61F-BA9ECEDD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07FFE5-A873-4AD9-89E6-3292E715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99F6F0-D6A3-4218-891F-E2965CDF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A9A6-DFFB-4127-BDC4-2A64FCC7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D6FFB5-79FC-492A-93C5-06A014BA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9A0FBD-F33B-40E6-B03A-D18E0261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297D1C-2AB9-4708-8856-23F6B87F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A86163-BFFD-4B62-AFE4-91DF0EA0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ADE2E5-5EA5-4E1A-809A-0C398CB7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65F875-2302-4C89-B895-052B9D69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D54392-5A38-45D9-9F29-191A52CF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110B6F-3DF9-482E-ABFE-F114CF08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E249B4-1E11-4E42-83A3-213E46AE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AF5E3C-26D7-4148-BDCA-D31C130E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08716-CD6D-4CB5-BA50-EC4005DD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B3849B-90A5-4C47-9030-19B64601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475BF6-3572-4AE2-917E-78E670E6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F23E75-E597-4358-ADCF-25BCDD84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9B97A9-B045-4AD1-9785-CBFAAD7C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4EE84C-B88D-45A8-952E-C32484BE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A72E66-096D-4D3F-A9A2-652BE61F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70A58A-47AA-4AEC-B871-BC47AE09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7D6F22-8E9B-41F1-933C-66069AF5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A315D6-1D91-4416-BA04-D630F9D9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07D933-5977-42D9-9169-189CF48A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20DA8-0232-493A-8A91-BC563611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C4A3D8-F019-4700-AC29-A5EC3FD2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475B16-F10E-4193-91D8-5C7FE839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9FD232-C8A4-4F2D-9BFD-21710D28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1FA743-66F2-488D-B9F8-00588CCF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29F75C-07A6-406A-9C11-3CDEAC9B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4D6DA6-E8E8-4C82-BB74-ED64F3D5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26C975-68B5-40BB-B70C-F9F2746E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A36A47-98EF-4D91-A90B-CFA703EE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F9ABC8-676E-4371-9045-F100D1A1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98AA92-DA60-4E0D-BAC7-21BE4BAD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168BD-BEC4-4825-8F78-56470368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E1B128-1DBE-4F6C-BA77-88E2388E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D54C22-258D-4517-B306-278F2275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3CEE43-EFEE-42A4-ACD9-82B9C9EF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DF3476-191C-4855-9692-CAD1D4FD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F9B299-98AA-4B6B-ADB5-04246498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B96819-D5D6-4CCF-9F43-14EF446D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035CF5-3166-46F0-8889-814479DC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C002CC-F009-46CB-945A-21F6BF19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E7E1D2-E68B-407B-AE46-795AE72F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6FDA4E-9345-424A-9750-C64D7779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47929-7919-41B6-B332-D57B4E5F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292447-AEDE-4DE1-A89E-0BE849CF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116DB5-C381-4FA7-A0C3-798852A4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6EB04F-0AC2-4357-9498-5766F0EB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513E0F-DDFE-428D-9849-43F29A44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FA909A-A59B-4897-AC17-B73F4001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3473C4-413B-4D9A-B6D0-C9DCA08B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D9EFD3-357E-4B0E-9493-C7C02275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E8A308-2595-4693-9A46-3433145C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F50642-D38D-4FED-8623-2B52FF62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0C1B20-F2CB-4F39-83A1-D29A3CDF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0C684-F478-4B61-8226-72F846AB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222C7F-80E2-489E-90F0-3FA0C9A8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ACA119-2FBE-493F-9DC7-1A16127B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FCBE59-00C6-4CE9-BD9F-67F7738D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619D95-D5DF-411F-BB16-227EF4FC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101042-0B82-4164-A160-E4ED3685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CE9FDB-B302-4F02-BB27-5D7FC50B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AAF6A0-1918-40F3-B113-0459E5A7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E205BA-F7CD-46E1-9557-4C4736F4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C68D80-ED35-4F72-B6C2-064F6030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9D8E3E-084D-41A3-BF7C-05C10CA1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3FC-6076-4784-8645-95F40485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A6BD1-62BF-4605-9807-2FC06680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0243D7-76AC-4E73-A916-25F54951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DDFA16-42EE-4A91-82B2-21853595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53A82C-E244-4878-A062-E35ED777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ACAC5A-556C-4875-9E93-DE19358D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8BD8E7-011E-45F7-91A8-105EA0E2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AA48DE-0831-4B03-9014-758415FA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DBB96C-04A8-4F7B-B956-FFF41367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668D67-9323-4F88-98BF-47EE3397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A7EE48-81D4-43B5-834F-C0AEDF88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3EBB97-BC85-4C87-A172-94E1B5CD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A67BC-D6B7-4827-930F-62FA04CE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F716E7-3E12-4114-A8AA-0A8AFC93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0D0342-F13D-4DFA-8875-A2226138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11D293-2EAD-47E6-AFE4-C387E16E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A1F181-DBEB-4C1C-B718-6AF083FA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50D4F1-E53A-4E85-9533-80074F70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1B0DB8-1B1C-451F-B118-75BCCE2C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F0B1A9-3195-4C7C-9B0E-FD748364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653327-9323-4AE2-A2D5-AE2B3C83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ADEDFA-14D7-44CA-B84C-075DE998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673345-2A1A-4FB0-85DA-8C2B3AE2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97DB1-622D-42F0-9D24-5E774108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A0F536-03B9-4212-ACE6-72D2953C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230131-1DCF-4DF0-B1C9-F6D4F873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7DAF6D-DF35-4524-9051-53EC3ECA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B2700F-F849-499B-AE33-A1475789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AF4F60-A8A9-4F61-99D4-8677B8DA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2AA2C9-93D1-4552-B82F-1F8FF304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3BA925-4595-4F02-AA34-5E10B6A8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61DF00-ADE1-4B75-B390-59C1B318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A373DA-1346-4F0A-B345-EA953969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799C17-B005-4A14-B760-6000BF3D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2D783-CA6B-4649-84C6-C72C625B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479426-9EF5-47FF-93B3-F2D201B9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364CBF-570C-4381-B585-4A5218DA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FF0329-2E4B-4508-916F-7F57C000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3D6277-1742-4AB6-A35B-269B86C1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39C9D1-EF49-4989-B900-42352A7C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FC621D-7C68-4ECD-93BC-5468E5FA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F27CA9-20EA-4679-B96D-774D8C18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46627C-A6FC-483A-9FB5-85B9F880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57A72A-3B99-4D37-940C-731C8EC6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A26BDD-D22F-429B-B137-A92DA9B8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B9373-75B3-4800-ABDC-0B71F37F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AFC463-47B7-4461-9F54-6F054220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453C12-3FB7-47F3-AA99-9A78EDC0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5042DA-3768-4A38-999C-015F5A61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100C05-6866-4C22-BB76-3A83C3E3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E1B042-E169-4BD1-9B85-5B8D4D6F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F4A2A2-BC29-438E-A11A-6C407274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F2DA1D-4D05-4750-AC28-DFA79FD4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EEF3ED-01F4-420D-9417-7DB933D2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5BEA28-53E9-4CBD-9C0C-D2F4C622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6BD0DD-87C5-4DA1-8FB8-79DA1184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C4740-1358-4D92-B87E-16C4D296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12D7E1-5533-4259-8834-2F063E5A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272426-EB9E-4436-8EB5-BC1297F4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25E3CF-7BD9-46A9-B16C-4BA0657A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FBE8B0-4F9C-4853-B322-8797419F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6E2A70-861B-4350-B786-6E891F85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CED6C6-15C0-4DF8-B8E1-1662AB98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AFD00C-257E-4202-ADD1-30169BE9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342738-78D6-4908-8A02-D0F9B372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9F4F25-097B-4066-A857-71DD8B1A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B23F9E-82B5-496F-8103-E0475272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FDECF-A63B-46E6-8780-4DE66BF3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7B9FA6-D001-4B0B-8C25-BF6513C9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B44CFF-3CC7-4A60-9412-2C69D0EB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5FC19B-33F7-4633-B07A-FEF274E8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34E06C-3C66-4E18-8DAB-AA64B796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55892C-0C56-4D2A-AF67-70CE4EB9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DCB73B-1265-4BE1-9118-03FDEAD0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55BAA9-D1F9-4F11-9F8F-4C90310E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82724F-C14F-4251-A85D-A65FFEDD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5FBF1F-9C91-4F42-988D-65787718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516BC9-A60B-44ED-98D7-557272A2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904F1-59C3-4D77-BB71-594D607C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E571A4-62E3-468C-83B4-8FA3C465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988C35-8A1C-4CB9-8B5C-2C87D324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FACB15-1A8F-4565-AF1C-68E18A75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AB4BF-CD27-47AB-82C1-9A2858E0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48765-F130-46D5-AE8A-CDFF3647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BB81-7221-45FC-8C5D-ED14E382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AC4B5-10FA-4B9E-9437-5F384E88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CCF7E-A77E-45EB-8697-5B36A8B1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C363B-6701-418F-8822-5D412240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11EB4-1BEF-45BA-8F50-D4F3FBB9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81C93-8631-4B74-B29E-7118E672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C834D-15BD-482C-8509-6DF1F3D5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F12AD-386D-45EB-BACB-A2CB55B0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B6005-AA4E-48E5-9321-01CA9442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12A08-6E93-4F6D-AB07-92ABF3FC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2E287-8D98-4998-BB8D-0E6BCC28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6ED1-A24D-47AE-BFB1-F2FCBEF3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57402-AB2F-404C-AC1C-B327A81C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5B57C-0468-449C-B454-48136191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E1380-F474-4D37-B78A-52160D28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1E53A-FE97-4C54-BEC7-E054482B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CF298-F2DD-4E99-B756-1FBD10E4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F4D1C-2358-4C4D-95B0-14956C6A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97E42-3E40-409D-ACB9-5636CFDF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0FBA7-5AB0-4625-A28B-B29E547F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360A5-2D5C-4E7A-9B31-0C50B0EC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95B0F-305C-4466-8522-211086D1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998-44A2-4E18-9291-E7EEB9F3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D58A1-28F4-4E9F-A602-AD729792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0E72F-133D-4C84-9BC4-FFDB09FB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12EA1-F0A6-4950-899D-88F7F5DE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99943-9403-43AC-B545-507E5B64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D904E-AB09-42C8-BF71-97662BCB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A86D3-E4B5-44C8-9E81-797E91B5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2368A-A431-41E0-BFBD-21621DBA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EB8B8-8030-41BD-8740-AA72D052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3EA28-905F-4FC6-B2C4-B6DC0433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D9690-7A8D-4D5F-B8AA-7534A05A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540-5E48-45EC-84FE-CBFD410E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FC951-D909-4227-9E77-CEC5C299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C72D0-65B4-4E23-9734-33682F77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03073-44BE-4CEA-8246-2935D8C4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B3B15-5F1F-497F-BA8D-61F8076B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5F5A5-B6A3-4DF2-80FF-10A6861E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C4193-9828-46A5-8507-552F5108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B747E-3B80-4A69-A2F5-D0CB7F57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1C649-96FB-4703-806B-BDAD71DB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4BF4B-BCC6-42C2-82BE-7AE9FA06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233F3-96DD-4826-9037-58148192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D328-2454-4571-9FD8-4443A7F3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585D9-4F57-4606-BF57-9A133C29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17B91-F84D-4F7E-8C95-22A136AC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9974E-335E-4EA9-B236-D71D826B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6DE31-96CE-40B4-B020-0057FD0C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F22C7-6648-4C27-B52E-67721FB0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DAB80-2E16-4EA1-B750-7F1E56E0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CAFC0-1DF0-4130-983A-EA7F5365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BA6E5-B13E-488C-A5DE-7081175A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F34A8-D3CA-4BC4-8CBD-6ED364DE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8C3F4-1515-4BFA-A65A-1EC582DE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29C-1D43-426C-A38E-940F1547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091A2-278C-4406-ABBB-8FFC7D80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299EB-976B-4D0E-930E-BC2124DA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66A5E-66E7-4BFF-9037-0FF594D8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FFFE5-DB88-4CB6-90F4-61308307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A1556-A3B7-43F7-A6F3-B2CD0C98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4139E-0225-4C51-BE83-9F5F2917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6C840-173B-4A06-B617-F12E2919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F5006-395A-4427-A96E-E897A87A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7ECB6-19E1-4838-912A-20DFA500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B6FF5-C48D-4212-94BC-717C6968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3F0C-7B41-4404-B542-D2DEDA22C0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9FEA-2785-426A-A497-E8ABBC47F9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C629-2D12-42B6-85B6-7B14699A27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EADE-83B3-469E-BFDB-B9E0E1A5FF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A567-5499-40E0-8F72-C3F18F4A1C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193C-405B-4EA9-A2AB-0D373FF0D9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5FC1-F568-406F-808E-96830300B9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E48D-F0C3-4E87-887C-3956EF4D60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8911-6B6B-44C1-BE1A-A796604463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C1FF-4C41-4166-8CF1-54D4F287FB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1A90-14A1-4A50-B64E-DA5BBFD0B8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D38F-6EBE-4DED-97BF-E7FA4591E0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F94B-2F53-4E7A-96AE-0CCD361713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5BD3-85FD-446D-AD8E-337A3B3276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4447-25F1-4863-89AA-8D6B7C6A5E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5202-3E28-456F-BCD2-65D95E213B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C334-0D3C-4B87-8922-F8F248D977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7AC6-59A0-4CCF-A0EC-E40851CF3D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92E6-C3A8-44C0-A55C-8D7A9C67E3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A9BA-BC41-428C-848F-BBD4535C06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238A-87E9-467F-A682-F45DEC1A3B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4999-D06C-4EC5-81C1-E4725CE57A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BBC6-D059-4D14-8886-BC3CDCEC4F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5415-30F9-4B11-A211-FDD177AC4E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6460-498D-4A4E-9CA7-8801E63AF5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0F6D-E317-4D29-82C6-C69BEA99C0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D4B1-4928-4DB1-8A4F-45E6C1A755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5F9F-561E-45A1-8FE7-CCDCB50711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7B94-2F60-47B5-B8D2-C4A5758E51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5C8C-D1A6-4DC8-8970-64DA2758EB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AB08-291B-45FC-A502-27D3DFCEAB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ED21-1DDD-4C20-8CF6-8170805D84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5054-5174-460F-B1BC-E9CFAD85CA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DF66-563E-4A50-852F-E89E77ABFF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FA31-C658-4B60-96D6-CDFDC59A75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428E-EEBA-468F-ACCB-D88F522C76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F032-B49C-4AC0-8986-721763981F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ACA8-1D70-4FE1-93CB-51194756E1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F3E1-AECC-440A-8CDD-593D4E94B0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BC8C-E189-4134-8EA9-0FEEDC5964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FAFD-910F-4AE4-A072-C896FE1BC3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6F92-CFE9-4544-8C3A-C4F9950B72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A7F0-AA14-460B-B35A-05029ED855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6B0E-776E-4695-95F5-13E3BBEA92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6F7A-BBA7-4471-86FB-9212388958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24D6-191D-4E52-9BAE-AF8FBDFE6B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E68E-C43B-4E47-8675-984BDFB5AB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6BF8-0A01-4B44-A6F1-41C24A88A6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CC22-9280-40E9-A2F0-D60684C531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81EF-532F-466D-8733-9304BF77C9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5" descr=""/>
          <p:cNvPicPr/>
          <p:nvPr/>
        </p:nvPicPr>
        <p:blipFill>
          <a:blip r:embed="rId1"/>
          <a:stretch/>
        </p:blipFill>
        <p:spPr>
          <a:xfrm>
            <a:off x="1817640" y="1255680"/>
            <a:ext cx="5305320" cy="71424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6" descr=""/>
          <p:cNvPicPr/>
          <p:nvPr/>
        </p:nvPicPr>
        <p:blipFill>
          <a:blip r:embed="rId2"/>
          <a:stretch/>
        </p:blipFill>
        <p:spPr>
          <a:xfrm>
            <a:off x="2378160" y="2451240"/>
            <a:ext cx="3676680" cy="685800"/>
          </a:xfrm>
          <a:prstGeom prst="rect">
            <a:avLst/>
          </a:prstGeom>
          <a:ln w="0">
            <a:noFill/>
          </a:ln>
        </p:spPr>
      </p:pic>
      <p:pic>
        <p:nvPicPr>
          <p:cNvPr id="1333" name="图片 40987" descr=""/>
          <p:cNvPicPr/>
          <p:nvPr/>
        </p:nvPicPr>
        <p:blipFill>
          <a:blip r:embed="rId3"/>
          <a:stretch/>
        </p:blipFill>
        <p:spPr>
          <a:xfrm>
            <a:off x="71280" y="4368960"/>
            <a:ext cx="7248600" cy="1676160"/>
          </a:xfrm>
          <a:prstGeom prst="rect">
            <a:avLst/>
          </a:prstGeom>
          <a:ln w="0">
            <a:noFill/>
          </a:ln>
        </p:spPr>
      </p:pic>
      <p:sp>
        <p:nvSpPr>
          <p:cNvPr id="1334" name="矩形 40988"/>
          <p:cNvSpPr/>
          <p:nvPr/>
        </p:nvSpPr>
        <p:spPr>
          <a:xfrm>
            <a:off x="450720" y="5572080"/>
            <a:ext cx="22021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40989"/>
          <p:cNvSpPr/>
          <p:nvPr/>
        </p:nvSpPr>
        <p:spPr>
          <a:xfrm>
            <a:off x="4108320" y="5584680"/>
            <a:ext cx="22021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图片 140289" descr=""/>
          <p:cNvPicPr/>
          <p:nvPr/>
        </p:nvPicPr>
        <p:blipFill>
          <a:blip r:embed="rId1"/>
          <a:stretch/>
        </p:blipFill>
        <p:spPr>
          <a:xfrm>
            <a:off x="744480" y="977760"/>
            <a:ext cx="7172280" cy="3962520"/>
          </a:xfrm>
          <a:prstGeom prst="rect">
            <a:avLst/>
          </a:prstGeom>
          <a:ln w="0">
            <a:noFill/>
          </a:ln>
        </p:spPr>
      </p:pic>
      <p:sp>
        <p:nvSpPr>
          <p:cNvPr id="1337" name="矩形 140290"/>
          <p:cNvSpPr/>
          <p:nvPr/>
        </p:nvSpPr>
        <p:spPr>
          <a:xfrm>
            <a:off x="844560" y="2016000"/>
            <a:ext cx="22273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40291"/>
          <p:cNvSpPr/>
          <p:nvPr/>
        </p:nvSpPr>
        <p:spPr>
          <a:xfrm>
            <a:off x="4654440" y="2003400"/>
            <a:ext cx="22273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2"/>
          <p:cNvSpPr/>
          <p:nvPr/>
        </p:nvSpPr>
        <p:spPr>
          <a:xfrm>
            <a:off x="907920" y="4314960"/>
            <a:ext cx="22273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3"/>
          <p:cNvSpPr/>
          <p:nvPr/>
        </p:nvSpPr>
        <p:spPr>
          <a:xfrm>
            <a:off x="4654440" y="4162320"/>
            <a:ext cx="220212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图片 139265" descr=""/>
          <p:cNvPicPr/>
          <p:nvPr/>
        </p:nvPicPr>
        <p:blipFill>
          <a:blip r:embed="rId1"/>
          <a:stretch/>
        </p:blipFill>
        <p:spPr>
          <a:xfrm>
            <a:off x="374760" y="893880"/>
            <a:ext cx="6972120" cy="4943520"/>
          </a:xfrm>
          <a:prstGeom prst="rect">
            <a:avLst/>
          </a:prstGeom>
          <a:ln w="0">
            <a:noFill/>
          </a:ln>
        </p:spPr>
      </p:pic>
      <p:sp>
        <p:nvSpPr>
          <p:cNvPr id="1342" name="矩形 139266"/>
          <p:cNvSpPr/>
          <p:nvPr/>
        </p:nvSpPr>
        <p:spPr>
          <a:xfrm>
            <a:off x="768240" y="2689200"/>
            <a:ext cx="23544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39267"/>
          <p:cNvSpPr/>
          <p:nvPr/>
        </p:nvSpPr>
        <p:spPr>
          <a:xfrm>
            <a:off x="4654440" y="2448000"/>
            <a:ext cx="2430720" cy="7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39268"/>
          <p:cNvSpPr/>
          <p:nvPr/>
        </p:nvSpPr>
        <p:spPr>
          <a:xfrm>
            <a:off x="730080" y="4950000"/>
            <a:ext cx="2430720" cy="7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39269"/>
          <p:cNvSpPr/>
          <p:nvPr/>
        </p:nvSpPr>
        <p:spPr>
          <a:xfrm>
            <a:off x="4514760" y="5013360"/>
            <a:ext cx="2430720" cy="7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图片 138241" descr=""/>
          <p:cNvPicPr/>
          <p:nvPr/>
        </p:nvPicPr>
        <p:blipFill>
          <a:blip r:embed="rId1"/>
          <a:stretch/>
        </p:blipFill>
        <p:spPr>
          <a:xfrm>
            <a:off x="317520" y="857160"/>
            <a:ext cx="4343400" cy="293364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138242" descr=""/>
          <p:cNvPicPr/>
          <p:nvPr/>
        </p:nvPicPr>
        <p:blipFill>
          <a:blip r:embed="rId2"/>
          <a:stretch/>
        </p:blipFill>
        <p:spPr>
          <a:xfrm>
            <a:off x="657360" y="4484520"/>
            <a:ext cx="3562200" cy="1876680"/>
          </a:xfrm>
          <a:prstGeom prst="rect">
            <a:avLst/>
          </a:prstGeom>
          <a:ln w="0">
            <a:noFill/>
          </a:ln>
        </p:spPr>
      </p:pic>
      <p:sp>
        <p:nvSpPr>
          <p:cNvPr id="1348" name="矩形 138243"/>
          <p:cNvSpPr/>
          <p:nvPr/>
        </p:nvSpPr>
        <p:spPr>
          <a:xfrm>
            <a:off x="679320" y="2511360"/>
            <a:ext cx="391644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38244"/>
          <p:cNvSpPr/>
          <p:nvPr/>
        </p:nvSpPr>
        <p:spPr>
          <a:xfrm>
            <a:off x="1847880" y="3438360"/>
            <a:ext cx="144000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38245"/>
          <p:cNvSpPr/>
          <p:nvPr/>
        </p:nvSpPr>
        <p:spPr>
          <a:xfrm>
            <a:off x="743040" y="5432400"/>
            <a:ext cx="343368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8246"/>
          <p:cNvSpPr/>
          <p:nvPr/>
        </p:nvSpPr>
        <p:spPr>
          <a:xfrm>
            <a:off x="1936800" y="5991120"/>
            <a:ext cx="143964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2" name="图片 137217" descr=""/>
          <p:cNvPicPr/>
          <p:nvPr/>
        </p:nvPicPr>
        <p:blipFill>
          <a:blip r:embed="rId1"/>
          <a:stretch/>
        </p:blipFill>
        <p:spPr>
          <a:xfrm>
            <a:off x="747720" y="976320"/>
            <a:ext cx="4295880" cy="2771640"/>
          </a:xfrm>
          <a:prstGeom prst="rect">
            <a:avLst/>
          </a:prstGeom>
          <a:ln w="0">
            <a:noFill/>
          </a:ln>
        </p:spPr>
      </p:pic>
      <p:sp>
        <p:nvSpPr>
          <p:cNvPr id="1353" name="矩形 137218"/>
          <p:cNvSpPr/>
          <p:nvPr/>
        </p:nvSpPr>
        <p:spPr>
          <a:xfrm>
            <a:off x="895320" y="1889280"/>
            <a:ext cx="4246560" cy="82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7219"/>
          <p:cNvSpPr/>
          <p:nvPr/>
        </p:nvSpPr>
        <p:spPr>
          <a:xfrm>
            <a:off x="2152800" y="2867040"/>
            <a:ext cx="94428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图片 136193" descr=""/>
          <p:cNvPicPr/>
          <p:nvPr/>
        </p:nvPicPr>
        <p:blipFill>
          <a:blip r:embed="rId1"/>
          <a:stretch/>
        </p:blipFill>
        <p:spPr>
          <a:xfrm>
            <a:off x="720720" y="879480"/>
            <a:ext cx="4552920" cy="2762280"/>
          </a:xfrm>
          <a:prstGeom prst="rect">
            <a:avLst/>
          </a:prstGeom>
          <a:ln w="0">
            <a:noFill/>
          </a:ln>
        </p:spPr>
      </p:pic>
      <p:sp>
        <p:nvSpPr>
          <p:cNvPr id="1356" name="矩形 136194"/>
          <p:cNvSpPr/>
          <p:nvPr/>
        </p:nvSpPr>
        <p:spPr>
          <a:xfrm>
            <a:off x="819000" y="1914480"/>
            <a:ext cx="3573720" cy="6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6195"/>
          <p:cNvSpPr/>
          <p:nvPr/>
        </p:nvSpPr>
        <p:spPr>
          <a:xfrm>
            <a:off x="2063880" y="2790720"/>
            <a:ext cx="919080" cy="795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图片 135169" descr=""/>
          <p:cNvPicPr/>
          <p:nvPr/>
        </p:nvPicPr>
        <p:blipFill>
          <a:blip r:embed="rId1"/>
          <a:stretch/>
        </p:blipFill>
        <p:spPr>
          <a:xfrm>
            <a:off x="660240" y="906480"/>
            <a:ext cx="5029200" cy="2733480"/>
          </a:xfrm>
          <a:prstGeom prst="rect">
            <a:avLst/>
          </a:prstGeom>
          <a:ln w="0">
            <a:noFill/>
          </a:ln>
        </p:spPr>
      </p:pic>
      <p:sp>
        <p:nvSpPr>
          <p:cNvPr id="1359" name="矩形 135170"/>
          <p:cNvSpPr/>
          <p:nvPr/>
        </p:nvSpPr>
        <p:spPr>
          <a:xfrm>
            <a:off x="692280" y="1749600"/>
            <a:ext cx="4043160" cy="89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5171"/>
          <p:cNvSpPr/>
          <p:nvPr/>
        </p:nvSpPr>
        <p:spPr>
          <a:xfrm>
            <a:off x="1962000" y="2790720"/>
            <a:ext cx="1122480" cy="89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图片 134145" descr=""/>
          <p:cNvPicPr/>
          <p:nvPr/>
        </p:nvPicPr>
        <p:blipFill>
          <a:blip r:embed="rId1"/>
          <a:stretch/>
        </p:blipFill>
        <p:spPr>
          <a:xfrm>
            <a:off x="669960" y="900000"/>
            <a:ext cx="4857840" cy="2695680"/>
          </a:xfrm>
          <a:prstGeom prst="rect">
            <a:avLst/>
          </a:prstGeom>
          <a:ln w="0">
            <a:noFill/>
          </a:ln>
        </p:spPr>
      </p:pic>
      <p:sp>
        <p:nvSpPr>
          <p:cNvPr id="1362" name="矩形 134146"/>
          <p:cNvSpPr/>
          <p:nvPr/>
        </p:nvSpPr>
        <p:spPr>
          <a:xfrm>
            <a:off x="831960" y="1736640"/>
            <a:ext cx="3738600" cy="8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4147"/>
          <p:cNvSpPr/>
          <p:nvPr/>
        </p:nvSpPr>
        <p:spPr>
          <a:xfrm>
            <a:off x="2063880" y="2727360"/>
            <a:ext cx="817560" cy="85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图片 133121" descr=""/>
          <p:cNvPicPr/>
          <p:nvPr/>
        </p:nvPicPr>
        <p:blipFill>
          <a:blip r:embed="rId1"/>
          <a:stretch/>
        </p:blipFill>
        <p:spPr>
          <a:xfrm>
            <a:off x="588960" y="936720"/>
            <a:ext cx="7381800" cy="2876400"/>
          </a:xfrm>
          <a:prstGeom prst="rect">
            <a:avLst/>
          </a:prstGeom>
          <a:ln w="0">
            <a:noFill/>
          </a:ln>
        </p:spPr>
      </p:pic>
      <p:sp>
        <p:nvSpPr>
          <p:cNvPr id="1365" name="矩形 133122"/>
          <p:cNvSpPr/>
          <p:nvPr/>
        </p:nvSpPr>
        <p:spPr>
          <a:xfrm>
            <a:off x="692280" y="2079720"/>
            <a:ext cx="5999040" cy="7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矩形 133123"/>
          <p:cNvSpPr/>
          <p:nvPr/>
        </p:nvSpPr>
        <p:spPr>
          <a:xfrm>
            <a:off x="1911240" y="2917800"/>
            <a:ext cx="1211400" cy="96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1T00:47:57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